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30D-AC92-4BED-956C-677A289C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85A-8186-4655-AB60-5EE1C1ED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517-0F11-4CA4-BB69-92FE72E6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ADB-F76A-4A80-A956-B55C029D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4D3-6B9D-4800-A471-B6920B96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75A-18CA-489D-A868-313F41AC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583-A05A-4C5E-8623-50DE2B25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AD0-591A-4A6B-A195-8BED9CE7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76A-C9F7-481D-BA1D-4479C815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EA1-0269-4EA7-AAD5-452F7977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D3F-2D2E-48AC-8D8F-5F2123A1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8F7-655B-474C-B558-75AE31D7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3160-368A-4AE1-ACD6-594192F81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hion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gang Navit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4056120" cy="495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0:33:24Z</dcterms:created>
  <dc:creator>Greg Navitsky</dc:creator>
  <dc:description/>
  <dc:language>en-US</dc:language>
  <cp:lastModifiedBy>Greg Navitsky</cp:lastModifiedBy>
  <dcterms:modified xsi:type="dcterms:W3CDTF">2012-05-24T01:04:27Z</dcterms:modified>
  <cp:revision>2</cp:revision>
  <dc:subject/>
  <dc:title>Slide 1</dc:title>
</cp:coreProperties>
</file>